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3.wmf" ContentType="image/x-wmf"/>
  <Override PartName="/ppt/media/image3.wmf" ContentType="image/x-wmf"/>
  <Override PartName="/ppt/media/coin.wav" ContentType="audio/x-wav"/>
  <Override PartName="/ppt/media/arrow.wav" ContentType="audio/x-wav"/>
  <Override PartName="/ppt/media/image1.jpeg" ContentType="image/jpeg"/>
  <Override PartName="/ppt/media/image15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cashreg.wav" ContentType="audio/x-wav"/>
  <Override PartName="/ppt/media/hammer.wav" ContentType="audio/x-wav"/>
  <Override PartName="/ppt/media/image6.wmf" ContentType="image/x-wmf"/>
  <Override PartName="/ppt/media/click.wav" ContentType="audio/x-wav"/>
  <Override PartName="/ppt/media/whoosh.wav" ContentType="audio/x-wav"/>
  <Override PartName="/ppt/media/breeze.wav" ContentType="audio/x-wav"/>
  <Override PartName="/ppt/media/camera.wav" ContentType="audio/x-wav"/>
  <Override PartName="/ppt/media/image2.png" ContentType="image/png"/>
  <Override PartName="/ppt/media/image10.wmf" ContentType="image/x-wmf"/>
  <Override PartName="/ppt/media/suction.wav" ContentType="audio/x-wav"/>
  <Override PartName="/ppt/media/image4.gif" ContentType="image/gif"/>
  <Override PartName="/ppt/media/drumroll.wav" ContentType="audio/x-wav"/>
  <Override PartName="/ppt/media/type.wav" ContentType="audio/x-wav"/>
  <Override PartName="/ppt/media/wind.wav" ContentType="audio/x-wav"/>
  <Override PartName="/ppt/media/image9.wmf" ContentType="image/x-wmf"/>
  <Override PartName="/ppt/media/explode.wav" ContentType="audio/x-wav"/>
  <Override PartName="/ppt/media/image11.wmf" ContentType="image/x-wmf"/>
  <Override PartName="/ppt/media/voltag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0269-9E34-4A6C-AE88-622CBD28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CCE3-0110-4878-921C-2583B16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7F81-E61C-43CD-A644-403C1606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DDE5-DBA8-4F0C-AF78-246CE091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A9A1-39D6-4276-A537-33DFF828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CCB-C33A-44CD-B3F3-ABED781B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7873-CCE3-4CD7-AD51-637C6D3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48F6-351D-41FE-8634-B82F9719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DA5D-85BD-40D4-9037-0C7963E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4F26-E1FF-47C3-BDFE-13C3446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309-155F-4F3B-8D90-80C546D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63DB-E23E-43FC-93D4-B1006CB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F2F-4241-4E27-98BF-0860F4F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2878-98E0-4E19-9661-54980B4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E593-AEA2-4750-8316-98DC5F9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DDF3-85C6-47D4-935F-48A645E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9FFB-2FDA-4B55-B197-82C6F09B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866D-1AD0-455B-B708-38557DB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71BF-2E82-4AB2-B59C-604A40E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34B2-8AC1-4E2A-AB8A-74F981A5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DADE-8399-44B5-840D-502A092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0DFF-9DE4-42E2-8CA8-D994448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5449-A1BB-4819-ACAD-A12F4BA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AB05-C538-4B09-88FF-A8A0944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639B-96F0-4A71-8628-5333933B00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1AB-B30E-4311-8328-6516E61189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arrow.wav" TargetMode="External"/><Relationship Id="rId3" Type="http://schemas.microsoft.com/office/2007/relationships/media" Target="file:///tmp/home/.config/libreoffice/4/user/gallery/arrow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breeze.wav" TargetMode="External"/><Relationship Id="rId3" Type="http://schemas.microsoft.com/office/2007/relationships/media" Target="file:///tmp/home/.config/libreoffice/4/user/gallery/breez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drumroll.wav" TargetMode="External"/><Relationship Id="rId6" Type="http://schemas.microsoft.com/office/2007/relationships/media" Target="file:///tmp/home/.config/libreoffice/4/user/gallery/drumroll.wav" TargetMode="External"/><Relationship Id="rId7" Type="http://schemas.openxmlformats.org/officeDocument/2006/relationships/image" Target="../media/image2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Bremen Town Musicians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ocabulary and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9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solving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00360" cy="411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explod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7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urviva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living on or of surviv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5436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serab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, very unhapp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67240" cy="37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5" name="voltag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138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struggle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hard to do something that is difficu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751200" cy="363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laser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depend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 on or trust a person or 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familiar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-known or close to you from repeated cont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38156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insis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ing a demand or taking a 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0512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xcit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l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nst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sici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obber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excitemen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very strong, happy feelings about something that you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7525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ill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ilding in which grain is ground into flour or m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31338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onst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-believe people or animals that are sc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243240" cy="415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5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musician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who sings, plays, or writes mus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9880" cy="293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lick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73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"/>
                </p:tgtEl>
              </p:cMediaNode>
            </p:audio>
            <p:seq>
              <p:cTn id="1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2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robber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ho rob or ste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92948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5" name="coin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0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Amazing Word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artnershi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u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rviv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serab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rugg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amilia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sis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Tahoma"/>
              </a:rPr>
              <a:t>partnership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wo or more people become partners and join together to share someth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3213000"/>
            <a:ext cx="56390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5" name="type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183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15:49Z</dcterms:created>
  <dc:creator> </dc:creator>
  <dc:description/>
  <dc:language>en-US</dc:language>
  <cp:lastModifiedBy>MCSB</cp:lastModifiedBy>
  <dcterms:modified xsi:type="dcterms:W3CDTF">2008-10-22T14:13:18Z</dcterms:modified>
  <cp:revision>2</cp:revision>
  <dc:subject/>
  <dc:title>The Bremen Town Musicians</dc:title>
</cp:coreProperties>
</file>